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jpeg" ContentType="image/jpeg"/>
  <Override PartName="/ppt/media/image23.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E1B5A-F602-4289-AE23-44595A72E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3F18-7B5B-4E73-96A7-D6561AF7E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4ACFD-B06C-4455-A941-5A39AD0C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676C1-4BC4-48D5-9DA6-639B99606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3369-268F-4690-BB8E-FFDC18AA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BBBFD-CDB9-450A-983B-393B02155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1E1F-CC4C-484C-93F6-AE9B20DB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63797-3E6B-4DBB-9786-802898D48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F50DB-B141-4495-A93A-17D3F2723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9058-9FFD-46AA-B0CF-A819BCA9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266A-B54D-497C-BA8A-27F161915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CCD2-7ECE-432A-81A7-0FBF6E268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2322-8451-46D5-AB09-C33091135A5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labriestables.com/yahoo_site_admin/assets/images/nell.301201138.JPG&amp;imgrefurl=http://www.labriestables.com/for_sale__lease&amp;usg=__3chAKaPFZjdkNnO70xcZjvzDWj4=&amp;h=274&amp;w=322&amp;sz=19&amp;hl=en&amp;start=226&amp;tbnid=kcW8jL3aD-yefM:&amp;tbnh=100&amp;tbnw=118&amp;prev=/images%3Fq%3Dhorse%2Bgymkhanas%26gbv%3D2%26ndsp%3D20%26hl%3Den%26safe%3Dactive%26sa%3DN%26start%3D220" TargetMode="External"/><Relationship Id="rId2" Type="http://schemas.openxmlformats.org/officeDocument/2006/relationships/image" Target="../media/image2.jpeg"/><Relationship Id="rId3" Type="http://schemas.openxmlformats.org/officeDocument/2006/relationships/hyperlink" Target="http://images.google.com.au/imgres?imgurl=http://z.hubpages.com/u/501677_f260.jpg&amp;imgrefurl=http://hubpages.com/hub/An-Introduction-Gymkhana-Horseback-Riding&amp;usg=__qvs6ZOQtRWkWZ6qdfxF7Y4kMMRw=&amp;h=208&amp;w=260&amp;sz=14&amp;hl=en&amp;start=94&amp;tbnid=L_TByRBohmR5MM:&amp;tbnh=90&amp;tbnw=112&amp;prev=/images%3Fq%3Dhorse%2Bgymkhanas%26gbv%3D2%26ndsp%3D20%26hl%3Den%26safe%3Dactive%26sa%3DN%26start%3D80"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images.google.com.au/imgres?imgurl=http://www.ramonasantanariders.com/images/Alexis_gymkhana.jpg&amp;imgrefurl=http://www.ramonasantanariders.com/pages/library.html&amp;usg=__Cbi0XvbvC4WT6jqqg6BQAhME-zs=&amp;h=1701&amp;w=1597&amp;sz=659&amp;hl=en&amp;start=30&amp;tbnid=_CwciKxig1bOkM:&amp;tbnh=150&amp;tbnw=141&amp;prev=/images%3Fq%3Dhorse%2Bgymkhanas%26gbv%3D2%26ndsp%3D20%26hl%3Den%26safe%3Dactive%26sa%3DN%26start%3D20" TargetMode="External"/><Relationship Id="rId7" Type="http://schemas.openxmlformats.org/officeDocument/2006/relationships/image" Target="../media/image5.jpeg"/><Relationship Id="rId8" Type="http://schemas.openxmlformats.org/officeDocument/2006/relationships/hyperlink" Target="http://images.google.com.au/imgres?imgurl=http://www.freewebs.com/monsterhorse/HurryScurry1.jpg&amp;imgrefurl=http://www.freewebs.com/monsterhorse/&amp;usg=__v217Vw7Gm7d4MR9dVE8W8S-Y1l4=&amp;h=484&amp;w=382&amp;sz=75&amp;hl=en&amp;start=54&amp;tbnid=Rv081UfQ_zrDwM:&amp;tbnh=129&amp;tbnw=102&amp;prev=/images%3Fq%3Dhorse%2Bgymkhanas%26gbv%3D2%26ndsp%3D20%26hl%3Den%26safe%3Dactive%26sa%3DN%26start%3D40" TargetMode="External"/><Relationship Id="rId9" Type="http://schemas.openxmlformats.org/officeDocument/2006/relationships/image" Target="../media/image6.jpeg"/><Relationship Id="rId10" Type="http://schemas.openxmlformats.org/officeDocument/2006/relationships/hyperlink" Target="http://images.google.com.au/imgres?imgurl=http://www.santaynezvalleyjournal.com/img.php%3Fid%3D667%26w%3D350&amp;imgrefurl=http://www.santaynezvalleyjournal.com/archive/5/22/465/&amp;usg=__D4kuHW_epZsmC84pYK9kWujHWl8=&amp;h=299&amp;w=350&amp;sz=26&amp;hl=en&amp;start=71&amp;tbnid=kP1-vW-erGQsuM:&amp;tbnh=103&amp;tbnw=120&amp;prev=/images%3Fq%3Dhorse%2Bgymkhanas%26gbv%3D2%26ndsp%3D20%26hl%3Den%26safe%3Dactive%26sa%3DN%26start%3D60" TargetMode="External"/><Relationship Id="rId11" Type="http://schemas.openxmlformats.org/officeDocument/2006/relationships/image" Target="../media/image7.jpeg"/><Relationship Id="rId12" Type="http://schemas.openxmlformats.org/officeDocument/2006/relationships/hyperlink" Target="http://images.google.com.au/imgres?imgurl=http://www.glasshousemountainsridingschool.com.au/images/jumping.jpg&amp;imgrefurl=http://www.glasshousemountainsridingschool.com.au/&amp;usg=__OjkmzexxUHVuViX7X61Wjh5rzns=&amp;h=480&amp;w=640&amp;sz=103&amp;hl=en&amp;start=134&amp;tbnid=TZ6Vkj6TmWJ-_M:&amp;tbnh=103&amp;tbnw=137&amp;prev=/images%3Fq%3Dhorse%2Bgymkhanas%26gbv%3D2%26ndsp%3D20%26hl%3Den%26safe%3Dactive%26sa%3DN%26start%3D120" TargetMode="External"/><Relationship Id="rId13" Type="http://schemas.openxmlformats.org/officeDocument/2006/relationships/image" Target="../media/image8.jpeg"/><Relationship Id="rId14" Type="http://schemas.openxmlformats.org/officeDocument/2006/relationships/hyperlink" Target="http://images.google.com.au/imgres?imgurl=http://www.majesticarabians.com/images/camp2.jpg&amp;imgrefurl=http://www.majesticarabians.com/camps.html&amp;usg=__MBmg9t9q8qIHgWHUzDOD88gVVl4=&amp;h=340&amp;w=410&amp;sz=30&amp;hl=en&amp;start=179&amp;tbnid=Vj5yDdkVVk-qaM:&amp;tbnh=104&amp;tbnw=125&amp;prev=/images%3Fq%3Dhorse%2Bgymkhanas%26gbv%3D2%26ndsp%3D20%26hl%3Den%26safe%3Dactive%26sa%3DN%26start%3D160" TargetMode="External"/><Relationship Id="rId15" Type="http://schemas.openxmlformats.org/officeDocument/2006/relationships/image" Target="../media/image9.jpeg"/><Relationship Id="rId16" Type="http://schemas.openxmlformats.org/officeDocument/2006/relationships/hyperlink" Target="http://images.google.com.au/imgres?imgurl=http://www.westwaystables.co.uk/img/jump.jpg&amp;imgrefurl=http://www.westwaystables.co.uk/gymkhana.html&amp;usg=__IGhn4dO9LxyN22vlYp6DwyTCIJ8=&amp;h=160&amp;w=200&amp;sz=20&amp;hl=en&amp;start=233&amp;tbnid=QMBQYMxMgj5f0M:&amp;tbnh=83&amp;tbnw=104&amp;prev=/images%3Fq%3Dhorse%2Bgymkhanas%26gbv%3D2%26ndsp%3D20%26hl%3Den%26safe%3Dactive%26sa%3DN%26start%3D220" TargetMode="External"/><Relationship Id="rId17" Type="http://schemas.openxmlformats.org/officeDocument/2006/relationships/image" Target="../media/image10.jpeg"/><Relationship Id="rId18" Type="http://schemas.openxmlformats.org/officeDocument/2006/relationships/hyperlink" Target="http://images.google.com.au/imgres?imgurl=http://www.graftontrailriders.com/images/gymkhana_gallery/images/DSC_0169.jpg&amp;imgrefurl=http://www.graftontrailriders.com/gymkhanas.html&amp;usg=__0_WJ_vn8sLUejlnhsAlVI9ONE4c=&amp;h=234&amp;w=350&amp;sz=16&amp;hl=en&amp;start=251&amp;tbnid=pY0sdBOREI2L5M:&amp;tbnh=80&amp;tbnw=120&amp;prev=/images%3Fq%3Dhorse%2Bgymkhanas%26gbv%3D2%26ndsp%3D20%26hl%3Den%26safe%3Dactive%26sa%3DN%26start%3D240" TargetMode="External"/><Relationship Id="rId19" Type="http://schemas.openxmlformats.org/officeDocument/2006/relationships/image" Target="../media/image11.jpeg"/><Relationship Id="rId20" Type="http://schemas.openxmlformats.org/officeDocument/2006/relationships/hyperlink" Target="http://images.google.com.au/imgres?imgurl=http://static.squidoo.com/resize/squidoo_images/-1/lens1825151_titanpole1.jpeg&amp;imgrefurl=http://www.squidoo.com/speedaction&amp;usg=__ch4wdiu3oxuKNIkePM5beNUKCUg=&amp;h=87&amp;w=116&amp;sz=12&amp;hl=en&amp;start=284&amp;tbnid=IR2idqaugrmmfM:&amp;tbnh=65&amp;tbnw=87&amp;prev=/images%3Fq%3Dhorse%2Bgymkhanas%26gbv%3D2%26ndsp%3D20%26hl%3Den%26safe%3Dactive%26sa%3DN%26start%3D280" TargetMode="External"/><Relationship Id="rId21" Type="http://schemas.openxmlformats.org/officeDocument/2006/relationships/image" Target="../media/image12.jpeg"/><Relationship Id="rId22" Type="http://schemas.openxmlformats.org/officeDocument/2006/relationships/hyperlink" Target="http://images.google.com.au/imgres?imgurl=http://www.michiganhorsesports.com/images/Disciplines,%2520Other/highschool08/images/Untitled-1.jpg&amp;imgrefurl=http://www.michiganhorsesports.com/pages/Other%2520Disciplines.html&amp;usg=__-uuCPFKmT8XS-cyIq9rtBSZl9to=&amp;h=369&amp;w=325&amp;sz=57&amp;hl=en&amp;start=296&amp;tbnid=ooF6E_mfhoGmjM:&amp;tbnh=122&amp;tbnw=107&amp;prev=/images%3Fq%3Dhorse%2Bgymkhanas%26gbv%3D2%26ndsp%3D20%26hl%3Den%26safe%3Dactive%26sa%3DN%26start%3D280" TargetMode="External"/><Relationship Id="rId23" Type="http://schemas.openxmlformats.org/officeDocument/2006/relationships/image" Target="../media/image13.jpeg"/><Relationship Id="rId24" Type="http://schemas.openxmlformats.org/officeDocument/2006/relationships/hyperlink" Target="http://images.google.com.au/imgres?imgurl=http://img3.photographersdirect.com/img/13886/wm/pd342953.jpg&amp;imgrefurl=http://www.photographersdirect.com/buyers/stockphoto.asp%3Fimageid%3D342953&amp;usg=__04WIAUoQ0b46Xityik7N90GkKao=&amp;h=333&amp;w=500&amp;sz=32&amp;hl=en&amp;start=299&amp;tbnid=7_NAWE_sIojD3M:&amp;tbnh=87&amp;tbnw=130&amp;prev=/images%3Fq%3Dhorse%2Bgymkhanas%26gbv%3D2%26ndsp%3D20%26hl%3Den%26safe%3Dactive%26sa%3DN%26start%3D280" TargetMode="External"/><Relationship Id="rId25" Type="http://schemas.openxmlformats.org/officeDocument/2006/relationships/image" Target="../media/image14.jpeg"/><Relationship Id="rId2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au/imgres?imgurl=http://www.pixelphotoz.com/images/images/Horse0038.jpg&amp;imgrefurl=http://www.pixelphotoz.com/equine-photography.php&amp;usg=__RsjBBI3maas_jju8G8_rnlFcpyU=&amp;h=400&amp;w=600&amp;sz=112&amp;hl=en&amp;start=494&amp;tbnid=l5LlRd0AhV4riM:&amp;tbnh=90&amp;tbnw=135&amp;prev=/images%3Fq%3Dhorse%2Bgymkhanas%26gbv%3D2%26ndsp%3D20%26hl%3Den%26safe%3Dactive%26sa%3DN%26start%3D480" TargetMode="External"/><Relationship Id="rId2" Type="http://schemas.openxmlformats.org/officeDocument/2006/relationships/image" Target="../media/image15.jpeg"/><Relationship Id="rId3" Type="http://schemas.openxmlformats.org/officeDocument/2006/relationships/hyperlink" Target="http://images.google.com.au/imgres?imgurl=http://content.breederoo.com/users/runningiranch/images/subheader-698123.png%3F2&amp;imgrefurl=http://runningiranch.com/gymkhana.cfm&amp;usg=__tyLDfBuKX3gh7jI5PWsYX5mvFeA=&amp;h=54&amp;w=160&amp;sz=4&amp;hl=en&amp;start=237&amp;tbnid=1tr1NwYBp--DAM:&amp;tbnh=33&amp;tbnw=98&amp;prev=/images%3Fq%3Dhorse%2Bgymkhanas%26gbv%3D2%26ndsp%3D20%26hl%3Den%26safe%3Dactive%26sa%3DN%26start%3D220" TargetMode="External"/><Relationship Id="rId4" Type="http://schemas.openxmlformats.org/officeDocument/2006/relationships/image" Target="../media/image16.jpeg"/><Relationship Id="rId5" Type="http://schemas.openxmlformats.org/officeDocument/2006/relationships/hyperlink" Target="http://images.google.com.au/imgres?imgurl=http://www.plymtreehorseshow.co.uk/images/horse-8.png&amp;imgrefurl=http://www.plymtreehorseshow.co.uk/horseindex.html&amp;usg=__GaAUGNqVx3Y3-m_5bNLwVF62P1A=&amp;h=188&amp;w=200&amp;sz=81&amp;hl=en&amp;start=315&amp;tbnid=zQ4LGxvonHpAhM:&amp;tbnh=98&amp;tbnw=104&amp;prev=/images%3Fq%3Dhorse%2Bgymkhanas%26gbv%3D2%26ndsp%3D20%26hl%3Den%26safe%3Dactive%26sa%3DN%26start%3D300" TargetMode="External"/><Relationship Id="rId6" Type="http://schemas.openxmlformats.org/officeDocument/2006/relationships/image" Target="../media/image17.jpeg"/><Relationship Id="rId7" Type="http://schemas.openxmlformats.org/officeDocument/2006/relationships/hyperlink" Target="http://images.google.com.au/imgres?imgurl=http://www.horsequest.co.uk/images/WaringWlshAARMainMay09.jpg&amp;imgrefurl=http://www.horsequest.co.uk/ShowjumpponiesLocal.htm&amp;usg=__c6vcbvfJ9cXb6rzt1p_3u7Rt0l4=&amp;h=270&amp;w=317&amp;sz=29&amp;hl=en&amp;start=290&amp;tbnid=ky5GDawCwXG5UM:&amp;tbnh=101&amp;tbnw=118&amp;prev=/images%3Fq%3Dhorse%2Bgymkhanas%26gbv%3D2%26ndsp%3D20%26hl%3Den%26safe%3Dactive%26sa%3DN%26start%3D280" TargetMode="External"/><Relationship Id="rId8" Type="http://schemas.openxmlformats.org/officeDocument/2006/relationships/image" Target="../media/image18.jpeg"/><Relationship Id="rId9" Type="http://schemas.openxmlformats.org/officeDocument/2006/relationships/hyperlink" Target="http://images.google.com.au/imgres?imgurl=http://api.ning.com/files/M0jBx91fsYwxQSmJAnl5Bz*Zdu3v1l-9jnwcHxYi3*kfE0iefbm58hhOZJxQ7T96sNtchJXJqlU9tIRFkgTxFvR6y-Hs2gZB/barrelsmall.jpg&amp;imgrefurl=http://thunderbayareahorses.ning.com/&amp;usg=__K6_SJ1idZrLrPg2OdU-lbLJ1TkA=&amp;h=144&amp;w=144&amp;sz=52&amp;hl=en&amp;start=354&amp;tbnid=SHPUBRaSr8gkLM:&amp;tbnh=94&amp;tbnw=94&amp;prev=/images%3Fq%3Dhorse%2Bgymkhanas%26gbv%3D2%26ndsp%3D20%26hl%3Den%26safe%3Dactive%26sa%3DN%26start%3D340" TargetMode="External"/><Relationship Id="rId10" Type="http://schemas.openxmlformats.org/officeDocument/2006/relationships/image" Target="../media/image19.jpeg"/><Relationship Id="rId11" Type="http://schemas.openxmlformats.org/officeDocument/2006/relationships/hyperlink" Target="http://images.google.com.au/imgres?imgurl=http://www.hilltophorseriding.com/images/home3_thumb.jpg&amp;imgrefurl=http://www.hilltophorseriding.com/&amp;usg=__z1ahEgxqK8I0n1sXq7HYkgPViek=&amp;h=332&amp;w=250&amp;sz=108&amp;hl=en&amp;start=392&amp;tbnid=O2bKE2M2x9ZUlM:&amp;tbnh=119&amp;tbnw=90&amp;prev=/images%3Fq%3Dhorse%2Bgymkhanas%26gbv%3D2%26ndsp%3D20%26hl%3Den%26safe%3Dactive%26sa%3DN%26start%3D380" TargetMode="External"/><Relationship Id="rId12" Type="http://schemas.openxmlformats.org/officeDocument/2006/relationships/image" Target="../media/image20.jpeg"/><Relationship Id="rId13" Type="http://schemas.openxmlformats.org/officeDocument/2006/relationships/hyperlink" Target="http://images.google.com.au/imgres?imgurl=http://img.webring.com/r/a/arabianspeedhors/logo&amp;imgrefurl=http://l.webring.com/hub%3Fring%3Darabianspeedhors&amp;usg=__9RY-VECGOKwencQ7ingiGDOqJFw=&amp;h=286&amp;w=370&amp;sz=25&amp;hl=en&amp;start=435&amp;tbnid=LQHoNAHqfPi5JM:&amp;tbnh=94&amp;tbnw=122&amp;prev=/images%3Fq%3Dhorse%2Bgymkhanas%26gbv%3D2%26ndsp%3D20%26hl%3Den%26safe%3Dactive%26sa%3DN%26start%3D420" TargetMode="External"/><Relationship Id="rId14" Type="http://schemas.openxmlformats.org/officeDocument/2006/relationships/image" Target="../media/image21.jpeg"/><Relationship Id="rId15" Type="http://schemas.openxmlformats.org/officeDocument/2006/relationships/hyperlink" Target="http://images.google.com.au/imgres?imgurl=http://www.cartoonstock.com/newscartoons/cartoonists/dms/lowres/dmsn79l.jpg&amp;imgrefurl=http://www.cartoonstock.com/directory/h/horse_lover_gifts.asp&amp;usg=__YpGb7M8Nyn2fBtqQ1dJwOvQ340E=&amp;h=380&amp;w=400&amp;sz=44&amp;hl=en&amp;start=438&amp;tbnid=QB9Z6ETSU-0PyM:&amp;tbnh=118&amp;tbnw=124&amp;prev=/images%3Fq%3Dhorse%2Bgymkhanas%26gbv%3D2%26ndsp%3D20%26hl%3Den%26safe%3Dactive%26sa%3DN%26start%3D420" TargetMode="External"/><Relationship Id="rId16" Type="http://schemas.openxmlformats.org/officeDocument/2006/relationships/image" Target="../media/image22.jpeg"/><Relationship Id="rId17" Type="http://schemas.openxmlformats.org/officeDocument/2006/relationships/hyperlink" Target="http://images.google.com.au/imgres?imgurl=http://www.minophoto.co.uk/img/horse_5.jpg&amp;imgrefurl=http://www.minophoto.co.uk/horse.html&amp;usg=__A-S1YVVL8GgOi7mXnrLNetCsxjc=&amp;h=376&amp;w=250&amp;sz=34&amp;hl=en&amp;start=502&amp;tbnid=Gtq16ekMC21MUM:&amp;tbnh=122&amp;tbnw=81&amp;prev=/images%3Fq%3Dhorse%2Bgymkhanas%26gbv%3D2%26ndsp%3D20%26hl%3Den%26safe%3Dactive%26sa%3DN%26start%3D500" TargetMode="External"/><Relationship Id="rId18" Type="http://schemas.openxmlformats.org/officeDocument/2006/relationships/image" Target="../media/image23.jpeg"/><Relationship Id="rId19" Type="http://schemas.openxmlformats.org/officeDocument/2006/relationships/hyperlink" Target="http://images.google.com.au/imgres?imgurl=http://www.hard-facts.net/graphics/horses/shirehorse.jpg&amp;imgrefurl=http://www.hard-facts.net/horses/stable.shtml&amp;usg=__0yDfbjEYzo7pZwSGu3UZmLVymUE=&amp;h=339&amp;w=385&amp;sz=17&amp;hl=en&amp;start=535&amp;tbnid=QZB8TvOaqP9nuM:&amp;tbnh=108&amp;tbnw=123&amp;prev=/images%3Fq%3Dhorse%2Bgymkhanas%26gbv%3D2%26ndsp%3D20%26hl%3Den%26safe%3Dactive%26sa%3DN%26start%3D520" TargetMode="External"/><Relationship Id="rId20" Type="http://schemas.openxmlformats.org/officeDocument/2006/relationships/image" Target="../media/image24.jpeg"/><Relationship Id="rId21" Type="http://schemas.openxmlformats.org/officeDocument/2006/relationships/hyperlink" Target="http://images.google.com.au/imgres?imgurl=http://www.perthhorseandponyclub.com/images/Lakeside%2520Setting.JPG&amp;imgrefurl=http://www.perthhorseandponyclub.com/about.html&amp;usg=__vD8QVHJpOqNwGtLqs7yT33AfD-w=&amp;h=317&amp;w=422&amp;sz=17&amp;hl=en&amp;start=531&amp;tbnid=tcdXOIJwQjsjtM:&amp;tbnh=95&amp;tbnw=126&amp;prev=/images%3Fq%3Dhorse%2Bgymkhanas%26gbv%3D2%26ndsp%3D20%26hl%3Den%26safe%3Dactive%26sa%3DN%26start%3D520" TargetMode="External"/><Relationship Id="rId22" Type="http://schemas.openxmlformats.org/officeDocument/2006/relationships/image" Target="../media/image25.jpeg"/><Relationship Id="rId23" Type="http://schemas.openxmlformats.org/officeDocument/2006/relationships/hyperlink" Target="http://images.google.com.au/imgres?imgurl=http://i151.photobucket.com/albums/s157/SophieCallahan/DSC_0053-1.jpg&amp;imgrefurl=http://www.equine-world.co.uk/forums/topic.asp%3FARCHIVE%3Dtrue%26TOPIC_ID%3D55478&amp;usg=__pexEJ2YQ8OB4GjdQepkMdGV4p9w=&amp;h=700&amp;w=1023&amp;sz=487&amp;hl=en&amp;start=542&amp;tbnid=Q7KVXMeMPj8uXM:&amp;tbnh=103&amp;tbnw=150&amp;prev=/images%3Fq%3Dhorse%2Bgymkhanas%26gbv%3D2%26ndsp%3D20%26hl%3Den%26safe%3Dactive%26sa%3DN%26start%3D540" TargetMode="External"/><Relationship Id="rId24" Type="http://schemas.openxmlformats.org/officeDocument/2006/relationships/image" Target="../media/image26.jpeg"/><Relationship Id="rId25" Type="http://schemas.openxmlformats.org/officeDocument/2006/relationships/hyperlink" Target="http://images.google.com.au/imgres?imgurl=http://z.about.com/d/horses/1/0/u/6/lawnornament.jpg&amp;imgrefurl=http://horses.about.com/b/2007/10/28/horses-in-costume.htm&amp;usg=__67ocbe8KzOvp5x01OkIQc4hU70c=&amp;h=150&amp;w=200&amp;sz=4&amp;hl=en&amp;start=576&amp;tbnid=KaESBJrDaUjJLM:&amp;tbnh=78&amp;tbnw=104&amp;prev=/images%3Fq%3Dhorse%2Bgymkhanas%26gbv%3D2%26ndsp%3D20%26hl%3Den%26safe%3Dactive%26sa%3DN%26start%3D560" TargetMode="External"/><Relationship Id="rId26" Type="http://schemas.openxmlformats.org/officeDocument/2006/relationships/image" Target="../media/image27.jpeg"/><Relationship Id="rId27" Type="http://schemas.openxmlformats.org/officeDocument/2006/relationships/hyperlink" Target="http://images.google.com.au/imgres?imgurl=http://www.northsideridingclub.org.au/forms%25202009/199IMG_0246.jpg&amp;imgrefurl=http://www.northsideridingclub.org.au/about_committee.html&amp;usg=__NM9R7aZ-MjzEaiSHWtB45oxX4nI=&amp;h=650&amp;w=435&amp;sz=101&amp;hl=en&amp;start=590&amp;tbnid=eEGOl0UD5uRUMM:&amp;tbnh=137&amp;tbnw=92&amp;prev=/images%3Fq%3Dhorse%2Bgymkhanas%26gbv%3D2%26ndsp%3D20%26hl%3Den%26safe%3Dactive%26sa%3DN%26start%3D580" TargetMode="External"/><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http://www.cvsc.net/Barrels2.gif"/>
          <p:cNvPicPr/>
          <p:nvPr/>
        </p:nvPicPr>
        <p:blipFill>
          <a:blip r:embed="rId1"/>
          <a:stretch/>
        </p:blipFill>
        <p:spPr>
          <a:xfrm>
            <a:off x="428760" y="0"/>
            <a:ext cx="8032680" cy="66834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ymkhanas</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000080" y="32860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rse sport. Just for fu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286000" y="5868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hree (3) barrels are placed in a triangle pattern, as in cloverleaf barrels. The pattern will be set to fit the arena, with no barrel closer than 15' from any fence. Flag is to be picked up at first barrel, contestant to proceed around the second barrel and deposit flag in container on third barrel and then cross finish line. Containers for the flags shall be at least the size of a two-gallon bucket (plastic or rubber). Material in container (to about 1" from top) should be suitable material to allow flag to be easily removed and stuck, i.e., soybeans, corn, wheat, loose sand. Flag sticks should be 18" in length with about 1/2" round dowel and blunt ends. The container must be set on the outer edge of the barrel and the flag in the outer edge of the container. The same flags will be used by all contestants in a class. If a flag breaks during the run, the rider will be given a rerun. Rider may run the course to the right or left. The rider must signal to the ring crew if they will be running right or lef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2286000" y="24130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ttern is set 100 feet from the timing line. The pattern will consist of 6 poles set 6 feet wide and 12 feet long. 3 poles on each side set 6 feet apart. The rider will ride through the poles, turn around, and ride back through the poles, and across the timing line. </a:t>
            </a:r>
            <a:endParaRPr b="0" lang="en-US" sz="2400" spc="-1" strike="noStrike">
              <a:solidFill>
                <a:srgbClr val="000000"/>
              </a:solidFill>
              <a:latin typeface="Arial"/>
            </a:endParaRPr>
          </a:p>
        </p:txBody>
      </p:sp>
      <p:sp>
        <p:nvSpPr>
          <p:cNvPr id="55" name="Rectangle 2"/>
          <p:cNvSpPr/>
          <p:nvPr/>
        </p:nvSpPr>
        <p:spPr>
          <a:xfrm>
            <a:off x="3571920" y="1357200"/>
            <a:ext cx="22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R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4" descr="http://tbn0.google.com/images?q=tbn:kcW8jL3aD-yefM:http://www.labriestables.com/yahoo_site_admin/assets/images/nell.301201138.JPG">
            <a:hlinkClick r:id="rId1"/>
          </p:cNvPr>
          <p:cNvPicPr/>
          <p:nvPr/>
        </p:nvPicPr>
        <p:blipFill>
          <a:blip r:embed="rId2"/>
          <a:stretch/>
        </p:blipFill>
        <p:spPr>
          <a:xfrm>
            <a:off x="4572000" y="0"/>
            <a:ext cx="2286000" cy="2500200"/>
          </a:xfrm>
          <a:prstGeom prst="rect">
            <a:avLst/>
          </a:prstGeom>
          <a:ln w="0">
            <a:noFill/>
          </a:ln>
        </p:spPr>
      </p:pic>
      <p:pic>
        <p:nvPicPr>
          <p:cNvPr id="57" name="Picture 8" descr="http://tbn1.google.com/images?q=tbn:L_TByRBohmR5MM:http://z.hubpages.com/u/501677_f260.jpg">
            <a:hlinkClick r:id="rId3"/>
          </p:cNvPr>
          <p:cNvPicPr/>
          <p:nvPr/>
        </p:nvPicPr>
        <p:blipFill>
          <a:blip r:embed="rId4"/>
          <a:stretch/>
        </p:blipFill>
        <p:spPr>
          <a:xfrm>
            <a:off x="2500200" y="0"/>
            <a:ext cx="2214720" cy="2571840"/>
          </a:xfrm>
          <a:prstGeom prst="rect">
            <a:avLst/>
          </a:prstGeom>
          <a:ln w="0">
            <a:noFill/>
          </a:ln>
        </p:spPr>
      </p:pic>
      <p:pic>
        <p:nvPicPr>
          <p:cNvPr id="58" name="Rectangle 2" descr=""/>
          <p:cNvPicPr/>
          <p:nvPr/>
        </p:nvPicPr>
        <p:blipFill>
          <a:blip r:embed="rId5"/>
          <a:stretch/>
        </p:blipFill>
        <p:spPr>
          <a:xfrm>
            <a:off x="2670120" y="-360360"/>
            <a:ext cx="3943440" cy="1420920"/>
          </a:xfrm>
          <a:prstGeom prst="rect">
            <a:avLst/>
          </a:prstGeom>
          <a:ln w="0">
            <a:noFill/>
          </a:ln>
        </p:spPr>
      </p:pic>
      <p:pic>
        <p:nvPicPr>
          <p:cNvPr id="59" name="Picture 2" descr="http://tbn0.google.com/images?q=tbn:_CwciKxig1bOkM:http://www.ramonasantanariders.com/images/Alexis_gymkhana.jpg">
            <a:hlinkClick r:id="rId6"/>
          </p:cNvPr>
          <p:cNvPicPr/>
          <p:nvPr/>
        </p:nvPicPr>
        <p:blipFill>
          <a:blip r:embed="rId7"/>
          <a:stretch/>
        </p:blipFill>
        <p:spPr>
          <a:xfrm>
            <a:off x="0" y="0"/>
            <a:ext cx="2428920" cy="2584440"/>
          </a:xfrm>
          <a:prstGeom prst="rect">
            <a:avLst/>
          </a:prstGeom>
          <a:ln w="0">
            <a:noFill/>
          </a:ln>
        </p:spPr>
      </p:pic>
      <p:pic>
        <p:nvPicPr>
          <p:cNvPr id="60" name="Picture 4" descr="http://tbn0.google.com/images?q=tbn:Rv081UfQ_zrDwM:http://www.freewebs.com/monsterhorse/HurryScurry1.jpg">
            <a:hlinkClick r:id="rId8"/>
          </p:cNvPr>
          <p:cNvPicPr/>
          <p:nvPr/>
        </p:nvPicPr>
        <p:blipFill>
          <a:blip r:embed="rId9"/>
          <a:stretch/>
        </p:blipFill>
        <p:spPr>
          <a:xfrm>
            <a:off x="0" y="2571840"/>
            <a:ext cx="2500200" cy="2643120"/>
          </a:xfrm>
          <a:prstGeom prst="rect">
            <a:avLst/>
          </a:prstGeom>
          <a:ln w="0">
            <a:noFill/>
          </a:ln>
        </p:spPr>
      </p:pic>
      <p:pic>
        <p:nvPicPr>
          <p:cNvPr id="61" name="Picture 6" descr="http://tbn2.google.com/images?q=tbn:kP1-vW-erGQsuM:http://www.santaynezvalleyjournal.com/img.php%3Fid%3D667%26w%3D350">
            <a:hlinkClick r:id="rId10"/>
          </p:cNvPr>
          <p:cNvPicPr/>
          <p:nvPr/>
        </p:nvPicPr>
        <p:blipFill>
          <a:blip r:embed="rId11"/>
          <a:stretch/>
        </p:blipFill>
        <p:spPr>
          <a:xfrm>
            <a:off x="0" y="5214960"/>
            <a:ext cx="2428920" cy="1643040"/>
          </a:xfrm>
          <a:prstGeom prst="rect">
            <a:avLst/>
          </a:prstGeom>
          <a:ln w="0">
            <a:noFill/>
          </a:ln>
        </p:spPr>
      </p:pic>
      <p:pic>
        <p:nvPicPr>
          <p:cNvPr id="62" name="Picture 10" descr="http://tbn1.google.com/images?q=tbn:TZ6Vkj6TmWJ-_M:http://www.glasshousemountainsridingschool.com.au/images/jumping.jpg">
            <a:hlinkClick r:id="rId12"/>
          </p:cNvPr>
          <p:cNvPicPr/>
          <p:nvPr/>
        </p:nvPicPr>
        <p:blipFill>
          <a:blip r:embed="rId13"/>
          <a:stretch/>
        </p:blipFill>
        <p:spPr>
          <a:xfrm>
            <a:off x="2500200" y="2500200"/>
            <a:ext cx="2571840" cy="2714760"/>
          </a:xfrm>
          <a:prstGeom prst="rect">
            <a:avLst/>
          </a:prstGeom>
          <a:ln w="0">
            <a:noFill/>
          </a:ln>
        </p:spPr>
      </p:pic>
      <p:pic>
        <p:nvPicPr>
          <p:cNvPr id="63" name="Picture 12" descr="http://tbn2.google.com/images?q=tbn:Vj5yDdkVVk-qaM:http://www.majesticarabians.com/images/camp2.jpg">
            <a:hlinkClick r:id="rId14"/>
          </p:cNvPr>
          <p:cNvPicPr/>
          <p:nvPr/>
        </p:nvPicPr>
        <p:blipFill>
          <a:blip r:embed="rId15"/>
          <a:stretch/>
        </p:blipFill>
        <p:spPr>
          <a:xfrm>
            <a:off x="2428920" y="5143680"/>
            <a:ext cx="2357280" cy="1714320"/>
          </a:xfrm>
          <a:prstGeom prst="rect">
            <a:avLst/>
          </a:prstGeom>
          <a:ln w="0">
            <a:noFill/>
          </a:ln>
        </p:spPr>
      </p:pic>
      <p:pic>
        <p:nvPicPr>
          <p:cNvPr id="64" name="Picture 16" descr="http://tbn0.google.com/images?q=tbn:QMBQYMxMgj5f0M:http://www.westwaystables.co.uk/img/jump.jpg">
            <a:hlinkClick r:id="rId16"/>
          </p:cNvPr>
          <p:cNvPicPr/>
          <p:nvPr/>
        </p:nvPicPr>
        <p:blipFill>
          <a:blip r:embed="rId17"/>
          <a:stretch/>
        </p:blipFill>
        <p:spPr>
          <a:xfrm>
            <a:off x="5000760" y="2500200"/>
            <a:ext cx="1785960" cy="2500560"/>
          </a:xfrm>
          <a:prstGeom prst="rect">
            <a:avLst/>
          </a:prstGeom>
          <a:ln w="0">
            <a:noFill/>
          </a:ln>
        </p:spPr>
      </p:pic>
      <p:pic>
        <p:nvPicPr>
          <p:cNvPr id="65" name="Picture 18" descr="http://tbn0.google.com/images?q=tbn:pY0sdBOREI2L5M:http://www.graftontrailriders.com/images/gymkhana_gallery/images/DSC_0169.jpg">
            <a:hlinkClick r:id="rId18"/>
          </p:cNvPr>
          <p:cNvPicPr/>
          <p:nvPr/>
        </p:nvPicPr>
        <p:blipFill>
          <a:blip r:embed="rId19"/>
          <a:stretch/>
        </p:blipFill>
        <p:spPr>
          <a:xfrm>
            <a:off x="4786200" y="4929120"/>
            <a:ext cx="2000520" cy="1928880"/>
          </a:xfrm>
          <a:prstGeom prst="rect">
            <a:avLst/>
          </a:prstGeom>
          <a:ln w="0">
            <a:noFill/>
          </a:ln>
        </p:spPr>
      </p:pic>
      <p:pic>
        <p:nvPicPr>
          <p:cNvPr id="66" name="Picture 20" descr="http://tbn2.google.com/images?q=tbn:IR2idqaugrmmfM:http://static.squidoo.com/resize/squidoo_images/-1/lens1825151_titanpole1.jpeg">
            <a:hlinkClick r:id="rId20"/>
          </p:cNvPr>
          <p:cNvPicPr/>
          <p:nvPr/>
        </p:nvPicPr>
        <p:blipFill>
          <a:blip r:embed="rId21"/>
          <a:stretch/>
        </p:blipFill>
        <p:spPr>
          <a:xfrm>
            <a:off x="6858000" y="0"/>
            <a:ext cx="2286000" cy="2571840"/>
          </a:xfrm>
          <a:prstGeom prst="rect">
            <a:avLst/>
          </a:prstGeom>
          <a:ln w="0">
            <a:noFill/>
          </a:ln>
        </p:spPr>
      </p:pic>
      <p:pic>
        <p:nvPicPr>
          <p:cNvPr id="67" name="Picture 22" descr="http://tbn2.google.com/images?q=tbn:ooF6E_mfhoGmjM:http://www.michiganhorsesports.com/images/Disciplines,%2520Other/highschool08/images/Untitled-1.jpg">
            <a:hlinkClick r:id="rId22"/>
          </p:cNvPr>
          <p:cNvPicPr/>
          <p:nvPr/>
        </p:nvPicPr>
        <p:blipFill>
          <a:blip r:embed="rId23"/>
          <a:stretch/>
        </p:blipFill>
        <p:spPr>
          <a:xfrm>
            <a:off x="6786720" y="2571840"/>
            <a:ext cx="2357280" cy="2286000"/>
          </a:xfrm>
          <a:prstGeom prst="rect">
            <a:avLst/>
          </a:prstGeom>
          <a:ln w="0">
            <a:noFill/>
          </a:ln>
        </p:spPr>
      </p:pic>
      <p:pic>
        <p:nvPicPr>
          <p:cNvPr id="68" name="Picture 24" descr="http://tbn0.google.com/images?q=tbn:7_NAWE_sIojD3M:http://img3.photographersdirect.com/img/13886/wm/pd342953.jpg">
            <a:hlinkClick r:id="rId24"/>
          </p:cNvPr>
          <p:cNvPicPr/>
          <p:nvPr/>
        </p:nvPicPr>
        <p:blipFill>
          <a:blip r:embed="rId25"/>
          <a:stretch/>
        </p:blipFill>
        <p:spPr>
          <a:xfrm>
            <a:off x="6786720" y="4857840"/>
            <a:ext cx="2357280" cy="20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6" descr="http://tbn1.google.com/images?q=tbn:l5LlRd0AhV4riM:http://www.pixelphotoz.com/images/images/Horse0038.jpg">
            <a:hlinkClick r:id="rId1"/>
          </p:cNvPr>
          <p:cNvPicPr/>
          <p:nvPr/>
        </p:nvPicPr>
        <p:blipFill>
          <a:blip r:embed="rId2"/>
          <a:stretch/>
        </p:blipFill>
        <p:spPr>
          <a:xfrm>
            <a:off x="1785960" y="1785960"/>
            <a:ext cx="1928880" cy="1500120"/>
          </a:xfrm>
          <a:prstGeom prst="rect">
            <a:avLst/>
          </a:prstGeom>
          <a:ln w="0">
            <a:noFill/>
          </a:ln>
        </p:spPr>
      </p:pic>
      <p:pic>
        <p:nvPicPr>
          <p:cNvPr id="70" name="Picture 2" descr="http://tbn1.google.com/images?q=tbn:1tr1NwYBp--DAM:http://content.breederoo.com/users/runningiranch/images/subheader-698123.png%3F2">
            <a:hlinkClick r:id="rId3"/>
          </p:cNvPr>
          <p:cNvPicPr/>
          <p:nvPr/>
        </p:nvPicPr>
        <p:blipFill>
          <a:blip r:embed="rId4"/>
          <a:stretch/>
        </p:blipFill>
        <p:spPr>
          <a:xfrm>
            <a:off x="3143160" y="2235240"/>
            <a:ext cx="3214800" cy="1122480"/>
          </a:xfrm>
          <a:prstGeom prst="rect">
            <a:avLst/>
          </a:prstGeom>
          <a:ln w="0">
            <a:noFill/>
          </a:ln>
        </p:spPr>
      </p:pic>
      <p:pic>
        <p:nvPicPr>
          <p:cNvPr id="71" name="Picture 4" descr="http://tbn3.google.com/images?q=tbn:zQ4LGxvonHpAhM:http://www.plymtreehorseshow.co.uk/images/horse-8.png">
            <a:hlinkClick r:id="rId5"/>
          </p:cNvPr>
          <p:cNvPicPr/>
          <p:nvPr/>
        </p:nvPicPr>
        <p:blipFill>
          <a:blip r:embed="rId6"/>
          <a:stretch/>
        </p:blipFill>
        <p:spPr>
          <a:xfrm>
            <a:off x="0" y="0"/>
            <a:ext cx="1785960" cy="1928880"/>
          </a:xfrm>
          <a:prstGeom prst="rect">
            <a:avLst/>
          </a:prstGeom>
          <a:ln w="0">
            <a:noFill/>
          </a:ln>
        </p:spPr>
      </p:pic>
      <p:pic>
        <p:nvPicPr>
          <p:cNvPr id="72" name="Picture 6" descr="http://tbn2.google.com/images?q=tbn:ky5GDawCwXG5UM:http://www.horsequest.co.uk/images/WaringWlshAARMainMay09.jpg">
            <a:hlinkClick r:id="rId7"/>
          </p:cNvPr>
          <p:cNvPicPr/>
          <p:nvPr/>
        </p:nvPicPr>
        <p:blipFill>
          <a:blip r:embed="rId8"/>
          <a:stretch/>
        </p:blipFill>
        <p:spPr>
          <a:xfrm>
            <a:off x="0" y="1785960"/>
            <a:ext cx="1785960" cy="1643040"/>
          </a:xfrm>
          <a:prstGeom prst="rect">
            <a:avLst/>
          </a:prstGeom>
          <a:ln w="0">
            <a:noFill/>
          </a:ln>
        </p:spPr>
      </p:pic>
      <p:pic>
        <p:nvPicPr>
          <p:cNvPr id="73" name="Picture 8" descr="http://tbn0.google.com/images?q=tbn:SHPUBRaSr8gkLM:http://api.ning.com/files/M0jBx91fsYwxQSmJAnl5Bz*Zdu3v1l-9jnwcHxYi3*kfE0iefbm58hhOZJxQ7T96sNtchJXJqlU9tIRFkgTxFvR6y-Hs2gZB/barrelsmall.jpg">
            <a:hlinkClick r:id="rId9"/>
          </p:cNvPr>
          <p:cNvPicPr/>
          <p:nvPr/>
        </p:nvPicPr>
        <p:blipFill>
          <a:blip r:embed="rId10"/>
          <a:stretch/>
        </p:blipFill>
        <p:spPr>
          <a:xfrm>
            <a:off x="0" y="3286080"/>
            <a:ext cx="1785960" cy="1643040"/>
          </a:xfrm>
          <a:prstGeom prst="rect">
            <a:avLst/>
          </a:prstGeom>
          <a:ln w="0">
            <a:noFill/>
          </a:ln>
        </p:spPr>
      </p:pic>
      <p:pic>
        <p:nvPicPr>
          <p:cNvPr id="74" name="Picture 10" descr="http://tbn2.google.com/images?q=tbn:O2bKE2M2x9ZUlM:http://www.hilltophorseriding.com/images/home3_thumb.jpg">
            <a:hlinkClick r:id="rId11"/>
          </p:cNvPr>
          <p:cNvPicPr/>
          <p:nvPr/>
        </p:nvPicPr>
        <p:blipFill>
          <a:blip r:embed="rId12"/>
          <a:stretch/>
        </p:blipFill>
        <p:spPr>
          <a:xfrm>
            <a:off x="0" y="4786200"/>
            <a:ext cx="1928880" cy="2071800"/>
          </a:xfrm>
          <a:prstGeom prst="rect">
            <a:avLst/>
          </a:prstGeom>
          <a:ln w="0">
            <a:noFill/>
          </a:ln>
        </p:spPr>
      </p:pic>
      <p:pic>
        <p:nvPicPr>
          <p:cNvPr id="75" name="Picture 12" descr="http://tbn0.google.com/images?q=tbn:LQHoNAHqfPi5JM:http://img.webring.com/r/a/arabianspeedhors/logo">
            <a:hlinkClick r:id="rId13"/>
          </p:cNvPr>
          <p:cNvPicPr/>
          <p:nvPr/>
        </p:nvPicPr>
        <p:blipFill>
          <a:blip r:embed="rId14"/>
          <a:stretch/>
        </p:blipFill>
        <p:spPr>
          <a:xfrm>
            <a:off x="1928880" y="4857840"/>
            <a:ext cx="1857240" cy="2000160"/>
          </a:xfrm>
          <a:prstGeom prst="rect">
            <a:avLst/>
          </a:prstGeom>
          <a:ln w="0">
            <a:noFill/>
          </a:ln>
        </p:spPr>
      </p:pic>
      <p:pic>
        <p:nvPicPr>
          <p:cNvPr id="76" name="Picture 14" descr="http://tbn1.google.com/images?q=tbn:QB9Z6ETSU-0PyM:http://www.cartoonstock.com/newscartoons/cartoonists/dms/lowres/dmsn79l.jpg">
            <a:hlinkClick r:id="rId15"/>
          </p:cNvPr>
          <p:cNvPicPr/>
          <p:nvPr/>
        </p:nvPicPr>
        <p:blipFill>
          <a:blip r:embed="rId16"/>
          <a:stretch/>
        </p:blipFill>
        <p:spPr>
          <a:xfrm>
            <a:off x="1785960" y="3286080"/>
            <a:ext cx="1857240" cy="1571760"/>
          </a:xfrm>
          <a:prstGeom prst="rect">
            <a:avLst/>
          </a:prstGeom>
          <a:ln w="0">
            <a:noFill/>
          </a:ln>
        </p:spPr>
      </p:pic>
      <p:pic>
        <p:nvPicPr>
          <p:cNvPr id="77" name="Picture 18" descr="http://tbn1.google.com/images?q=tbn:Gtq16ekMC21MUM:http://www.minophoto.co.uk/img/horse_5.jpg">
            <a:hlinkClick r:id="rId17"/>
          </p:cNvPr>
          <p:cNvPicPr/>
          <p:nvPr/>
        </p:nvPicPr>
        <p:blipFill>
          <a:blip r:embed="rId18"/>
          <a:stretch/>
        </p:blipFill>
        <p:spPr>
          <a:xfrm>
            <a:off x="1857240" y="0"/>
            <a:ext cx="1857600" cy="1785960"/>
          </a:xfrm>
          <a:prstGeom prst="rect">
            <a:avLst/>
          </a:prstGeom>
          <a:ln w="0">
            <a:noFill/>
          </a:ln>
        </p:spPr>
      </p:pic>
      <p:pic>
        <p:nvPicPr>
          <p:cNvPr id="78" name="Picture 20" descr="http://tbn0.google.com/images?q=tbn:QZB8TvOaqP9nuM:http://www.hard-facts.net/graphics/horses/shirehorse.jpg">
            <a:hlinkClick r:id="rId19"/>
          </p:cNvPr>
          <p:cNvPicPr/>
          <p:nvPr/>
        </p:nvPicPr>
        <p:blipFill>
          <a:blip r:embed="rId20"/>
          <a:stretch/>
        </p:blipFill>
        <p:spPr>
          <a:xfrm>
            <a:off x="3571920" y="0"/>
            <a:ext cx="2143080" cy="2143080"/>
          </a:xfrm>
          <a:prstGeom prst="rect">
            <a:avLst/>
          </a:prstGeom>
          <a:ln w="0">
            <a:noFill/>
          </a:ln>
        </p:spPr>
      </p:pic>
      <p:pic>
        <p:nvPicPr>
          <p:cNvPr id="79" name="Picture 22" descr="http://tbn3.google.com/images?q=tbn:tcdXOIJwQjsjtM:http://www.perthhorseandponyclub.com/images/Lakeside%2520Setting.JPG">
            <a:hlinkClick r:id="rId21"/>
          </p:cNvPr>
          <p:cNvPicPr/>
          <p:nvPr/>
        </p:nvPicPr>
        <p:blipFill>
          <a:blip r:embed="rId22"/>
          <a:stretch/>
        </p:blipFill>
        <p:spPr>
          <a:xfrm>
            <a:off x="3571920" y="3286080"/>
            <a:ext cx="2571840" cy="1643040"/>
          </a:xfrm>
          <a:prstGeom prst="rect">
            <a:avLst/>
          </a:prstGeom>
          <a:ln w="0">
            <a:noFill/>
          </a:ln>
        </p:spPr>
      </p:pic>
      <p:pic>
        <p:nvPicPr>
          <p:cNvPr id="80" name="Picture 24" descr="http://tbn1.google.com/images?q=tbn:Q7KVXMeMPj8uXM:http://i151.photobucket.com/albums/s157/SophieCallahan/DSC_0053-1.jpg">
            <a:hlinkClick r:id="rId23"/>
          </p:cNvPr>
          <p:cNvPicPr/>
          <p:nvPr/>
        </p:nvPicPr>
        <p:blipFill>
          <a:blip r:embed="rId24"/>
          <a:stretch/>
        </p:blipFill>
        <p:spPr>
          <a:xfrm>
            <a:off x="3857760" y="4857840"/>
            <a:ext cx="2143080" cy="2000160"/>
          </a:xfrm>
          <a:prstGeom prst="rect">
            <a:avLst/>
          </a:prstGeom>
          <a:ln w="0">
            <a:noFill/>
          </a:ln>
        </p:spPr>
      </p:pic>
      <p:pic>
        <p:nvPicPr>
          <p:cNvPr id="81" name="Picture 26" descr="http://tbn2.google.com/images?q=tbn:KaESBJrDaUjJLM:http://z.about.com/d/horses/1/0/u/6/lawnornament.jpg">
            <a:hlinkClick r:id="rId25"/>
          </p:cNvPr>
          <p:cNvPicPr/>
          <p:nvPr/>
        </p:nvPicPr>
        <p:blipFill>
          <a:blip r:embed="rId26"/>
          <a:stretch/>
        </p:blipFill>
        <p:spPr>
          <a:xfrm>
            <a:off x="5643720" y="0"/>
            <a:ext cx="2214360" cy="2071800"/>
          </a:xfrm>
          <a:prstGeom prst="rect">
            <a:avLst/>
          </a:prstGeom>
          <a:ln w="0">
            <a:noFill/>
          </a:ln>
        </p:spPr>
      </p:pic>
      <p:pic>
        <p:nvPicPr>
          <p:cNvPr id="82" name="Picture 28" descr="http://tbn2.google.com/images?q=tbn:eEGOl0UD5uRUMM:http://www.northsideridingclub.org.au/forms%25202009/199IMG_0246.jpg">
            <a:hlinkClick r:id="rId27"/>
          </p:cNvPr>
          <p:cNvPicPr/>
          <p:nvPr/>
        </p:nvPicPr>
        <p:blipFill>
          <a:blip r:embed="rId28"/>
          <a:stretch/>
        </p:blipFill>
        <p:spPr>
          <a:xfrm>
            <a:off x="7858080" y="0"/>
            <a:ext cx="1285920" cy="1928880"/>
          </a:xfrm>
          <a:prstGeom prst="rect">
            <a:avLst/>
          </a:prstGeom>
          <a:ln w="0">
            <a:noFill/>
          </a:ln>
        </p:spPr>
      </p:pic>
      <p:pic>
        <p:nvPicPr>
          <p:cNvPr id="83" name="Picture 30" descr="http://tbn3.google.com/images?q=tbn:SqMf7jJ6Ed536M:http://4.bp.blogspot.com/_9_Bw-K3NquA/SlpCWomFteI/AAAAAAAAGNM/l70JDV-dDds/s400/DSC07449.jpg"/>
          <p:cNvPicPr/>
          <p:nvPr/>
        </p:nvPicPr>
        <p:blipFill>
          <a:blip r:embed="rId29"/>
          <a:stretch/>
        </p:blipFill>
        <p:spPr>
          <a:xfrm>
            <a:off x="6357960" y="2214720"/>
            <a:ext cx="2786040" cy="25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071800" y="-94298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5" name="Rectangle 2"/>
          <p:cNvSpPr/>
          <p:nvPr/>
        </p:nvSpPr>
        <p:spPr>
          <a:xfrm>
            <a:off x="2357280" y="428760"/>
            <a:ext cx="457200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ARIZONA KEYHOLE/KEYHOLE</a:t>
            </a:r>
            <a:r>
              <a:rPr b="0" lang="en-AU" sz="2000" spc="-1" strike="noStrike">
                <a:solidFill>
                  <a:srgbClr val="000000"/>
                </a:solidFill>
                <a:latin typeface="Calibri"/>
              </a:rPr>
              <a:t> - Riders ride down the field through ground poles into a "keyhole" turns the horse or rounds a pole and rides back to the finish line. Poles may not be touched.</a:t>
            </a:r>
            <a:br>
              <a:rPr sz="2000"/>
            </a:br>
            <a:br>
              <a:rPr sz="2000"/>
            </a:br>
            <a:r>
              <a:rPr b="1" lang="en-AU" sz="2000" spc="-1" strike="noStrike">
                <a:solidFill>
                  <a:srgbClr val="000000"/>
                </a:solidFill>
                <a:latin typeface="Calibri"/>
              </a:rPr>
              <a:t>SKILL BARRELS</a:t>
            </a:r>
            <a:r>
              <a:rPr b="0" lang="en-AU" sz="2000" spc="-1" strike="noStrike">
                <a:solidFill>
                  <a:srgbClr val="000000"/>
                </a:solidFill>
                <a:latin typeface="Calibri"/>
              </a:rPr>
              <a:t> - Three barrels set in a row across the back of the ring. Rider rides to the RIGHT of the middle barrel, weaves the barrel on the left then proceeds to weave the middle and right barrels ending up on the right side of the middle barrel than rides back to the finish line.</a:t>
            </a:r>
            <a:br>
              <a:rPr sz="2000"/>
            </a:br>
            <a:br>
              <a:rPr sz="2000"/>
            </a:br>
            <a:r>
              <a:rPr b="1" lang="en-AU" sz="2000" spc="-1" strike="noStrike">
                <a:solidFill>
                  <a:srgbClr val="000000"/>
                </a:solidFill>
                <a:latin typeface="Calibri"/>
              </a:rPr>
              <a:t>FLAG &amp; BACK</a:t>
            </a:r>
            <a:r>
              <a:rPr b="0" lang="en-AU" sz="2000" spc="-1" strike="noStrike">
                <a:solidFill>
                  <a:srgbClr val="000000"/>
                </a:solidFill>
                <a:latin typeface="Calibri"/>
              </a:rPr>
              <a:t> - Using six barrels, 2 sets of three parallel to each other. The two inside barrels have a bucket of flags on them. You must ride into (between) the barrels, grab a flag and BACK your horse out, spin and ride to the finish line!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1714680" y="500040"/>
            <a:ext cx="5072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SPEED BALL</a:t>
            </a:r>
            <a:r>
              <a:rPr b="0" lang="en-AU" sz="2000" spc="-1" strike="noStrike">
                <a:solidFill>
                  <a:srgbClr val="000000"/>
                </a:solidFill>
                <a:latin typeface="Calibri"/>
              </a:rPr>
              <a:t> - Rider must drop a golf ball into the top of a cone while turning a barrel (that the cone is on) and ride to the finish line.</a:t>
            </a:r>
            <a:br>
              <a:rPr sz="2000"/>
            </a:br>
            <a:br>
              <a:rPr sz="2000"/>
            </a:br>
            <a:r>
              <a:rPr b="1" lang="en-AU" sz="2000" spc="-1" strike="noStrike">
                <a:solidFill>
                  <a:srgbClr val="000000"/>
                </a:solidFill>
                <a:latin typeface="Calibri"/>
              </a:rPr>
              <a:t>SPEAR RACE</a:t>
            </a:r>
            <a:r>
              <a:rPr b="0" lang="en-AU" sz="2000" spc="-1" strike="noStrike">
                <a:solidFill>
                  <a:srgbClr val="000000"/>
                </a:solidFill>
                <a:latin typeface="Calibri"/>
              </a:rPr>
              <a:t> - Rider must ride around the ring with  "spear" in their hand and spear rings hanging from each pole. Rider must bring all rings to the finish line or they are DQ'd!</a:t>
            </a:r>
            <a:br>
              <a:rPr sz="2000"/>
            </a:br>
            <a:br>
              <a:rPr sz="2000"/>
            </a:br>
            <a:r>
              <a:rPr b="1" lang="en-AU" sz="2000" spc="-1" strike="noStrike">
                <a:solidFill>
                  <a:srgbClr val="000000"/>
                </a:solidFill>
                <a:latin typeface="Calibri"/>
              </a:rPr>
              <a:t>RING TOSS</a:t>
            </a:r>
            <a:r>
              <a:rPr b="0" lang="en-AU" sz="2000" spc="-1" strike="noStrike">
                <a:solidFill>
                  <a:srgbClr val="000000"/>
                </a:solidFill>
                <a:latin typeface="Calibri"/>
              </a:rPr>
              <a:t> - Rider must "toss" or place rings around cones as they round barrels (that the cones are on).</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2286000" y="102888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JOCK STRAP</a:t>
            </a:r>
            <a:r>
              <a:rPr b="0" lang="en-AU" sz="1800" spc="-1" strike="noStrike">
                <a:solidFill>
                  <a:srgbClr val="000000"/>
                </a:solidFill>
                <a:latin typeface="Calibri"/>
              </a:rPr>
              <a:t> - Rider must grab ball from first Ball &amp; Chain pole and drop it in a bucket at the top of the ring, then ride to ball on pole at the other side of the ring and return to the bucket at the top of the ring. Drop the ball in and ride to finish line. Balls must stay IN the bucket.</a:t>
            </a:r>
            <a:br>
              <a:rPr sz="1800"/>
            </a:br>
            <a:br>
              <a:rPr sz="1800"/>
            </a:br>
            <a:r>
              <a:rPr b="1" lang="en-AU" sz="1800" spc="-1" strike="noStrike">
                <a:solidFill>
                  <a:srgbClr val="000000"/>
                </a:solidFill>
                <a:latin typeface="Calibri"/>
              </a:rPr>
              <a:t>PONY EXPRESS</a:t>
            </a:r>
            <a:r>
              <a:rPr b="0" lang="en-AU" sz="1800" spc="-1" strike="noStrike">
                <a:solidFill>
                  <a:srgbClr val="000000"/>
                </a:solidFill>
                <a:latin typeface="Calibri"/>
              </a:rPr>
              <a:t> - Follow course to saddle bag, grab paper from bag and ride to finish line. Must have paper in hand at finish line.</a:t>
            </a:r>
            <a:br>
              <a:rPr sz="1800"/>
            </a:br>
            <a:br>
              <a:rPr sz="1800"/>
            </a:br>
            <a:r>
              <a:rPr b="1" lang="en-AU" sz="1800" spc="-1" strike="noStrike">
                <a:solidFill>
                  <a:srgbClr val="000000"/>
                </a:solidFill>
                <a:latin typeface="Calibri"/>
              </a:rPr>
              <a:t>PEPPERMINT TWIST</a:t>
            </a:r>
            <a:r>
              <a:rPr b="0" lang="en-AU" sz="1800" spc="-1" strike="noStrike">
                <a:solidFill>
                  <a:srgbClr val="000000"/>
                </a:solidFill>
                <a:latin typeface="Calibri"/>
              </a:rPr>
              <a:t> - Rider figure 8's two barrels at bottom of ring, then pole bends three poles in centre of ring, up and back and rides to finish line.</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1928880" y="428760"/>
            <a:ext cx="45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le Bending patter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ix (6) poles, which are 6' tall, shall be 21' apart and 21' from the timing line to the first pole. The end pole must also be at least 21' from the arena fence. The pattern may be run left or right. Rider may touch pole to keep it from going down. The decision to determine if a pole goes down because of wind remains with the people designated as the judges by the show committe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nal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is a five (5) second penalty for each pole knocked dow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857240" y="0"/>
            <a:ext cx="4572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peed and Action  patte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box that is 16' x 16' is outlined with lime or flour and is located three (3) feet behind the timing line. A barrel to run at is placed 125' from the starting line. This barrel may not be closer than 15' from any fence. Mounted rider enters the rear of the box and settles horse/pony for 5 seconds. On judge's signal, contestant runs the pattern. The rider must exit the front of the box (nearest barrel), ride around the barrel, either left or right and then renter the front of the box for 5 seconds. The time starts when rider crosses timing line and stops with recrossing of timing line. The barrel must stay in place for the entire class. Rider may touch barrel in an attempt to prevent it from falling ov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286000" y="42876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lug Race patter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tern will be set to fit arena, with one barrel used to run at. Barrel may not be closer than 15' from any fence. Rider may run left or right. Horse/pony must go around barrel. Rider may touch barrel in an attempt to prevent it from falling over. Barrel must stay in same place for entire class, or entire class must be rerun, including original no ti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2286000" y="785880"/>
            <a:ext cx="45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T Spec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two (2) barrels are placed in a straight line, horizontal with the timing line. The pattern will be set to fit the arena, with no barrel closer than 15' from any f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pattern can be run either left or right. Contestant may touch a barrel to prevent it from falling over. Any changes made in the pattern once a class has started will cancel all times run and call for the rerunning of the enti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2286000" y="750960"/>
            <a:ext cx="4572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loverleaf Barr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equipment shall consist of three (3) barrels placed in a triangle pattern. The pattern shall be set to best fit the arena. A suggested pattern may be as follows: The right and left barrels form the base of the triangle, which will be parallel to the starting line and a maximum of 75' from each other. The third barrel will be down the arena and will be a maximum of 150' from the starting line. It will be equidistant from the right and left barr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 barrel may be closer than 15' from any fence. The pattern can be run either right or left. Contestant may touch a barrel in an attempt to prevent it from falling over. Any changes made in the pattern once a class has started will cancel all times run and call for the rerunning to the entire cla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02:36:31Z</dcterms:created>
  <dc:creator>Education</dc:creator>
  <dc:description/>
  <dc:language>en-US</dc:language>
  <cp:lastModifiedBy>Education</cp:lastModifiedBy>
  <dcterms:modified xsi:type="dcterms:W3CDTF">2009-08-17T03:02:32Z</dcterms:modified>
  <cp:revision>9</cp:revision>
  <dc:subject/>
  <dc:title>Gymkhanas</dc:title>
</cp:coreProperties>
</file>